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765EF8AB-1104-4F91-AB70-55E5B6601E1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F7D47B3B-D0C0-49B5-98FB-EB1BDA29966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8: Summary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We Have Cover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33400"/>
            <a:ext cx="79135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seminar, we h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d your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n that current software problems will get worse if not soon addres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d how the PSP changes development behavi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n how the TSP builds high-performance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ed the benefits of the TSP quality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d why self-directed teams are needed and how they are manag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mmended the steps for introducing the TSP into your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x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x steps recommended for introducing the TSP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measurabl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ucces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continuing oversigh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start planning these steps in the planning workshop tomorr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ease fill out the course evaluation forms with your comments and feedba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17360" y="1924200"/>
            <a:ext cx="741348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5300" spc="-1" strike="noStrike">
                <a:solidFill>
                  <a:srgbClr val="39536b"/>
                </a:solidFill>
                <a:latin typeface="Arial"/>
              </a:rPr>
              <a:t>Thank you!</a:t>
            </a:r>
            <a:endParaRPr b="0" lang="en-US" sz="5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9:40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8:01Z</dcterms:modified>
  <cp:revision>11</cp:revision>
  <dc:subject>24 July 2001 / 3:30pm</dc:subject>
  <dc:title>PowerPoint Presentation</dc:title>
</cp:coreProperties>
</file>